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C1DD-D69F-4F7D-98A1-802E37C95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5E26-0D7C-4900-B8ED-DD846E2DD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C498-A0D3-4FAD-B9CD-BAD718277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AF42-C633-4E83-94E1-9ECC03BA3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13D38-1F2F-4490-8F42-16667E79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BD6D3-09F0-4314-918B-6200264E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C039C-68AE-42A4-BF1E-62B0494E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13DC4-7E97-47E9-89F5-77F728D0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AD4F6-2B6A-42B1-BB0C-51F33634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45ABF-20FD-4447-8A92-2EB0D044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17BBA-3E31-408C-99B5-3F724CF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2C77-1BFD-423D-90B2-8174552F8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2D5F1-2F9B-44A0-93F1-9A42C16A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8CA95-0000-4D3A-8D82-7E6907C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80F15-775D-4508-8339-3DEC2C0E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3BF9E-E620-4030-8D83-2A505C1E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EB53D-8873-4905-A8A2-57205132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E7DC-7C65-4764-9338-F7EEC66C3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5915-C1B9-4C98-832E-134AC2BEB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DC9E-2A92-482F-8A44-9E19E056D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BA63-7372-487F-A443-30EF96794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2A5C-E59A-4F1F-8029-B986F8CCD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4C3D-6E7E-4616-B496-9DC54621F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2B19-C742-4691-A783-5742C9D8C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FA004A-4F95-4A43-80DD-8FFF66FE34D6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5988-050B-46E2-B791-84A7711D9AB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Q Mobile Group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rnaround Program Initiati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M-Excellenc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"/>
          <p:cNvSpPr/>
          <p:nvPr/>
        </p:nvSpPr>
        <p:spPr>
          <a:xfrm>
            <a:off x="431640" y="5251320"/>
            <a:ext cx="4572000" cy="92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文鼎中黑"/>
              </a:rPr>
              <a:t>BMG Program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2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ummary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34748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ase for action and scope of initiative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verall status of initiative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tailed project pla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00" y="1670040"/>
            <a:ext cx="4303800" cy="4775040"/>
          </a:xfrm>
          <a:custGeom>
            <a:avLst/>
            <a:gdLst>
              <a:gd name="textAreaLeft" fmla="*/ 0 w 4303800"/>
              <a:gd name="textAreaRight" fmla="*/ 4304160 w 4303800"/>
              <a:gd name="textAreaTop" fmla="*/ 0 h 4775040"/>
              <a:gd name="textAreaBottom" fmla="*/ 4775400 h 47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2" y="0"/>
                </a:lnTo>
                <a:lnTo>
                  <a:pt x="21600" y="10800"/>
                </a:lnTo>
                <a:lnTo>
                  <a:pt x="187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08000" bIns="72000" anchor="t">
            <a:noAutofit/>
          </a:bodyPr>
          <a:p>
            <a:pPr lvl="1" marL="803160" indent="-26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6028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9720" y="1844640"/>
            <a:ext cx="3625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TM not satis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roduct quality at delivery date not satisfactory; return rates to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Requirements mgmt and change request processes too vola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latform and re-use strategy needs more 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rocess understanding and maturity level too low (&lt; CMM level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rocess metrics and derived CIP measures not part of routine PLM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Low intake of invention disclo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94040" y="1312920"/>
            <a:ext cx="32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"/>
              </a:rPr>
              <a:t>PLM Excellence Initiative Sco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5960" y="1332000"/>
            <a:ext cx="372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"/>
              </a:rPr>
              <a:t>Current PLM situation – case for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7080" y="1668600"/>
            <a:ext cx="3668760" cy="47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3120" y="244080"/>
            <a:ext cx="902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mmediate drive PLM efficiency and T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53320"/>
            <a:ext cx="758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Minion"/>
                <a:ea typeface="文鼎中黑"/>
              </a:rPr>
              <a:t>For Top Management, summary, Current PLM situation &amp; PLM Excellence project scop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86280" y="1628640"/>
            <a:ext cx="4078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inion"/>
                <a:ea typeface="文鼎中黑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quality and innovation position for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ducts on the road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Define quantified targets 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benchmark considerations), and de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KIs and objectives for the suborgan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w.r.t. People – Process – Products - Pro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Launch series of specific 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s to optimize whole PLM,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only the R&amp;D org or 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Start with PHE, involve PHA later when results can b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demon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6280" y="3935520"/>
            <a:ext cx="4078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Minion"/>
                <a:ea typeface="文鼎中黑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eople: Motivation &amp;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cess: Organization &amp;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ducts:Innovation &amp;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5851440"/>
            <a:ext cx="407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inion"/>
                <a:ea typeface="文鼎中黑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S.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498492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Minion"/>
                <a:ea typeface="文鼎中黑"/>
              </a:rPr>
              <a:t>KP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inion"/>
                <a:ea typeface="文鼎中黑"/>
              </a:rPr>
              <a:t>19 KPI’s defined, clustered in the BSC (balanced scorecards) systematic: Financials, Process, People &amp; innovation,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3120" y="1197000"/>
            <a:ext cx="1781280" cy="26820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440" y="1254240"/>
            <a:ext cx="93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Achiev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9800" y="1541520"/>
            <a:ext cx="3116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144360" indent="-14292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ew organization MD SP defined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mplemented and oper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14292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arve out project COM SP up and ru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14292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egotiation achievement tracking in place (11,6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14292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/ MD team in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120" y="1197000"/>
            <a:ext cx="3948120" cy="3095640"/>
          </a:xfrm>
          <a:custGeom>
            <a:avLst/>
            <a:gdLst>
              <a:gd name="textAreaLeft" fmla="*/ 0 w 3948120"/>
              <a:gd name="textAreaRight" fmla="*/ 3948480 w 394812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3120" y="1197000"/>
            <a:ext cx="2940120" cy="26820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440" y="1254240"/>
            <a:ext cx="93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Achiev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08480" y="1197000"/>
            <a:ext cx="4611600" cy="3095640"/>
          </a:xfrm>
          <a:custGeom>
            <a:avLst/>
            <a:gdLst>
              <a:gd name="textAreaLeft" fmla="*/ 0 w 4611600"/>
              <a:gd name="textAreaRight" fmla="*/ 4611960 w 461160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Symbol" charset="2"/>
              <a:buChar char="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11720" y="1197000"/>
            <a:ext cx="2949480" cy="26676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24520" y="1258920"/>
            <a:ext cx="250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Critical issues/Open topics to be solv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3120" y="4430880"/>
            <a:ext cx="3948120" cy="1662120"/>
          </a:xfrm>
          <a:custGeom>
            <a:avLst/>
            <a:gdLst>
              <a:gd name="textAreaLeft" fmla="*/ 0 w 3948120"/>
              <a:gd name="textAreaRight" fmla="*/ 3948480 w 394812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3120" y="4438800"/>
            <a:ext cx="2944800" cy="26820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8080" y="4502160"/>
            <a:ext cx="2829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Required decisions from Management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0040" y="4430880"/>
            <a:ext cx="4611600" cy="1660320"/>
          </a:xfrm>
          <a:custGeom>
            <a:avLst/>
            <a:gdLst>
              <a:gd name="textAreaLeft" fmla="*/ 0 w 4611600"/>
              <a:gd name="textAreaRight" fmla="*/ 4611960 w 4611600"/>
              <a:gd name="textAreaTop" fmla="*/ 0 h 1660320"/>
              <a:gd name="textAreaBottom" fmla="*/ 1660680 h 16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Symbol" charset="2"/>
              <a:buChar char="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11720" y="4430880"/>
            <a:ext cx="2949480" cy="293400"/>
          </a:xfrm>
          <a:prstGeom prst="rect">
            <a:avLst/>
          </a:prstGeom>
          <a:solidFill>
            <a:srgbClr val="a6a0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2640" y="4502160"/>
            <a:ext cx="71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Next step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604360" y="331560"/>
            <a:ext cx="290520" cy="493560"/>
            <a:chOff x="8604360" y="331560"/>
            <a:chExt cx="290520" cy="493560"/>
          </a:xfrm>
        </p:grpSpPr>
        <p:sp>
          <p:nvSpPr>
            <p:cNvPr id="114" name=""/>
            <p:cNvSpPr/>
            <p:nvPr/>
          </p:nvSpPr>
          <p:spPr>
            <a:xfrm rot="10800000">
              <a:off x="8650440" y="331560"/>
              <a:ext cx="213480" cy="493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8711640" y="518760"/>
              <a:ext cx="896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8711640" y="392040"/>
              <a:ext cx="896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820000" y="605520"/>
              <a:ext cx="727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26120" y="756720"/>
              <a:ext cx="6876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616960" y="761400"/>
              <a:ext cx="756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04360" y="607320"/>
              <a:ext cx="8856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8655480" y="593280"/>
              <a:ext cx="202680" cy="22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-421920" y="333360"/>
            <a:ext cx="784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683"/>
                </a:solidFill>
                <a:latin typeface="Minion"/>
                <a:ea typeface="文鼎中黑"/>
              </a:rPr>
              <a:t>Overall status turnaround initiative PLM Excel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760" y="1776240"/>
            <a:ext cx="3692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PLM excellence program defined, agreed upon by CM, TPM, RD, and communicated within all R&amp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PI‘s for R&amp;D org completed Jan-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U2 projects launched to secure Kestrel, Polaris, Swift, Swan; metrics since Jan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ick-off for Agile Initiative Jan-4; applied to Ruby, Gemstone, J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776240"/>
            <a:ext cx="369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5157720"/>
            <a:ext cx="369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0200" y="4797360"/>
            <a:ext cx="419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Arial"/>
                <a:ea typeface="文鼎中黑"/>
              </a:rPr>
              <a:t>Task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                   </a:t>
            </a:r>
            <a:r>
              <a:rPr b="0" lang="en-US" sz="1000" spc="-1" strike="noStrike" u="sng">
                <a:solidFill>
                  <a:srgbClr val="3a0e66"/>
                </a:solidFill>
                <a:uFillTx/>
                <a:latin typeface="Arial"/>
                <a:ea typeface="文鼎中黑"/>
              </a:rPr>
              <a:t>Responsible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     </a:t>
            </a:r>
            <a:r>
              <a:rPr b="0" lang="en-US" sz="1000" spc="-1" strike="noStrike" u="sng">
                <a:solidFill>
                  <a:srgbClr val="3a0e66"/>
                </a:solidFill>
                <a:uFillTx/>
                <a:latin typeface="Arial"/>
                <a:ea typeface="文鼎中黑"/>
              </a:rPr>
              <a:t>Du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5160960"/>
            <a:ext cx="369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1960" y="151920"/>
            <a:ext cx="8267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PLM Excellence Project Status Overview: 25-Jan-06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23800" y="735120"/>
          <a:ext cx="8305920" cy="4984560"/>
        </p:xfrm>
        <a:graphic>
          <a:graphicData uri="http://schemas.openxmlformats.org/drawingml/2006/table">
            <a:tbl>
              <a:tblPr/>
              <a:tblGrid>
                <a:gridCol w="1285920"/>
                <a:gridCol w="895320"/>
                <a:gridCol w="2210040"/>
                <a:gridCol w="2253960"/>
                <a:gridCol w="1660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Project, P-Lea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Achie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Critical 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Next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文鼎中黑"/>
                        </a:rPr>
                        <a:t>Uniform Communi-cation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文鼎中黑"/>
                        </a:rPr>
                        <a:t>Bocion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Concept „Quo Vadis R&amp;D“ defined; accepted by mgmt 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ll hands R&amp;D meeting on 27-Jan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High-performing cultur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ocion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KPI‘s defined, baselining underway, targets to be set end of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KPI targets ready 31-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Mgmt objectives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Model-V implem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ocionek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Fill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eeds more discussions with BenQ QM; </a:t>
                      </a:r>
                      <a:r>
                        <a:rPr b="1" lang="de-DE" sz="10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B dr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gil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U. Schmitz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Faessler, Rudol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Kick-off for Swan and Koala on Jan 4/5; Consulting supp. by ObjectMentor(O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Koala stopped; now Ruby &amp; Gemstone; High consultancy 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Scrum start Ruby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OM offer agreed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est-in-Test: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Wac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Systemtest managers informed, goals partly defined</a:t>
                      </a:r>
                      <a:r>
                        <a:rPr b="1" lang="de-DE" sz="10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lignment with SW and Q, kick off in cw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est-in-IT tools; J.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Schmit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Kick-off done; Benchmarking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ssource &amp; budget in ES dept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epends on concept tp be real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cept proposal ready in cw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Platform &amp; Portfolio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SB + 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Good alignment meetings with CM in Dec. 05; needs contin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Too little exchange of ideas so far (but there was Christm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QA‘able Portfolio doc by Uwe Sydon due 31-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Invent the futur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auregger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Hart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Kick off meeting cw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Status eval. start cw04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Target clarif. start cw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cleanApoxi platform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Faess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ajor goals identif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Team members to be named (Jan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U2 projects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Faessler, Rudol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Ongoing for Polaris, Swift, Swan, Kestrel; wallchart reviews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Wallchart reviews &amp; SW TTM call with JE week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Quality Up of MD;</a:t>
                      </a: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Thonau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LM MD excellence program and KPI‘s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Track monthly KPI‘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rot="16200000">
            <a:off x="2122560" y="112032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195640" y="141408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208240" y="140112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2387520" y="1363320"/>
            <a:ext cx="15732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2128680" y="15177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2201760" y="18108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214360" y="179856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2393640" y="176004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25440" y="19429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198520" y="220788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2211480" y="219528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122200" y="233964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2182680" y="258264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95640" y="26046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208240" y="25923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2192400" y="302076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205000" y="30081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189160" y="341748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2201760" y="340524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112840" y="2755440"/>
            <a:ext cx="26964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2185920" y="3814560"/>
            <a:ext cx="1872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2198520" y="38019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2109960" y="316980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170080" y="341280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182680" y="421128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195640" y="419868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2106360" y="360180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166840" y="384444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2179440" y="4598640"/>
            <a:ext cx="19080" cy="1872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192400" y="458568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103480" y="403380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176560" y="49669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2189160" y="495396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2100240" y="43941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2173320" y="539244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2185920" y="537948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2097000" y="48261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170080" y="574164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2182680" y="572868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2361960" y="506844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2093760" y="518652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2166840" y="61290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2179800" y="611640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2358720" y="542880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2163600" y="651636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2176560" y="650376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2361960" y="463356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2355840" y="4274640"/>
            <a:ext cx="15732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2182680" y="299376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411280" y="2192040"/>
            <a:ext cx="15696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emplate 3: Detailed project plan</a:t>
            </a:r>
            <a:r>
              <a:rPr b="1" i="1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1" name=""/>
          <p:cNvSpPr/>
          <p:nvPr/>
        </p:nvSpPr>
        <p:spPr>
          <a:xfrm>
            <a:off x="308880" y="1341360"/>
            <a:ext cx="2414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Including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imelines &amp; due 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87640" y="1197000"/>
            <a:ext cx="289080" cy="1800360"/>
          </a:xfrm>
          <a:custGeom>
            <a:avLst/>
            <a:gdLst>
              <a:gd name="textAreaLeft" fmla="*/ 0 w 289080"/>
              <a:gd name="textAreaRight" fmla="*/ 104400 w 289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97320" y="19162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see next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61960" y="151920"/>
            <a:ext cx="8267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PLM Excellence Project Plans: Overview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23800" y="1039680"/>
          <a:ext cx="8305920" cy="4957560"/>
        </p:xfrm>
        <a:graphic>
          <a:graphicData uri="http://schemas.openxmlformats.org/drawingml/2006/table">
            <a:tbl>
              <a:tblPr/>
              <a:tblGrid>
                <a:gridCol w="1285920"/>
                <a:gridCol w="895320"/>
                <a:gridCol w="4464000"/>
                <a:gridCol w="1660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Project, P-Lea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Project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400" spc="-1" strike="noStrike">
                          <a:solidFill>
                            <a:srgbClr val="3a0e66"/>
                          </a:solidFill>
                          <a:latin typeface="Minion"/>
                          <a:ea typeface="Arial Unicode MS"/>
                        </a:rPr>
                        <a:t>Next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文鼎中黑"/>
                        </a:rPr>
                        <a:t>Uniform Communi-cation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文鼎中黑"/>
                        </a:rPr>
                        <a:t>Bocion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Establish regular all hands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Engange in breakfast meetings and other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2nd all hands R&amp;D meeting on March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High-performing cultur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ocion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Establish commitment-driven behavior, KPI metrics, Balanced Score ca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SC in Feb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Employee survey Jul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Model-V;            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ocionek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Fill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Introduce process culture and discipline, incl. Internal customer satisfaction metrics (Mar 06), CIP targets (Apr. 06), CMM baseline (Dec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Define program, Feb.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gil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U. Schmitz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Faessler, Rudol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Prototype Agile in 2 – 3 projects (Jan – Sep 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Prepare organization for full Agile transition (Dec 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Scrum start Ruby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OM offer agreed 14-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est-in-Test: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Wac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Start defect injection analysis (Feb 06), define bug fix cycle time impro-vement plan (Feb 06), improve NCCPI at delivery dates to &lt; 50K (Jul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lignment with SW and Q, kick off in cw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Best-in-IT tools; J.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Schmit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solidate all tools for PLM (Mar 06), centralize support infrastructure (Mar 06), increase interaction and automation of tool chain (Jul 06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cept proposal ready in cw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Platform &amp; Portfolio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SB + 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Define Roadmap alignment &amp; change mgmt process (Feb 06), clarify plat-form responsibilities and activities (Feb 06), define re-use strategy (Mar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QA‘able Portfolio doc by Uwe Sydon due 31-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Invent the future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Bauregger</a:t>
                      </a: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, Hart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Agree on invention disclosure targets (Jan 06), start invention initiative (Feb 06), strengthen IP portfolio of BMG (Dec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Launch initiative (Feb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cleanApoxi platform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Faess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efine formal platform concept, incl. technical specification (Mar 06), usage model (Apr 06); start skills enhancement program (May 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"/>
                          <a:ea typeface="Arial Unicode MS"/>
                        </a:rPr>
                        <a:t>Start workgroup, cw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U2 projects;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Faessler, Rudol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Set up U2 methodology for Polaris, Swift, Swan, Kestrel (done, Jan 06); report metrics on weekly basis (ongoing); secure TTM for the pro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Wallchart reviews started 26-Jan; weekly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Quality Up of MD;</a:t>
                      </a:r>
                      <a:r>
                        <a:rPr b="0" lang="de-DE" sz="9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de-DE" sz="1000" spc="-1" strike="noStrike" u="sng">
                          <a:solidFill>
                            <a:srgbClr val="3a0e66"/>
                          </a:solidFill>
                          <a:uFillTx/>
                          <a:latin typeface="Arial Unicode MS"/>
                          <a:ea typeface="Arial Unicode MS"/>
                        </a:rPr>
                        <a:t>Thonau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LM MD excellence program and KPI‘s defined (done, Jan06; &lt; 2% RR), improvement project starts Feb 06), visible results (Jul 06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000" spc="-1" strike="noStrike">
                          <a:solidFill>
                            <a:srgbClr val="3a0e66"/>
                          </a:solidFill>
                          <a:latin typeface="Arial Unicode MS"/>
                          <a:ea typeface="Arial Unicode MS"/>
                        </a:rPr>
                        <a:t>Track monthly KPI‘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rot="16200000">
            <a:off x="2122200" y="142524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2195640" y="17190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2208240" y="170640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387520" y="1668240"/>
            <a:ext cx="15696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2128680" y="189072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2201760" y="21157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2214360" y="210348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394000" y="2133720"/>
            <a:ext cx="15696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2125800" y="226800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2198520" y="25128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2211120" y="250020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2122200" y="270000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2182680" y="294300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2195640" y="29095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2208240" y="289656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2192400" y="33253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2205000" y="331308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2189160" y="37224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2201760" y="3709440"/>
            <a:ext cx="1404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112840" y="3131640"/>
            <a:ext cx="26964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2185920" y="41191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198520" y="410688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2109960" y="349200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2170080" y="373500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2182680" y="45162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2195280" y="450360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106720" y="39063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2166840" y="41493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2179440" y="4903560"/>
            <a:ext cx="19080" cy="1872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192400" y="48909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103480" y="428472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2176560" y="527184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2189160" y="525924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2100240" y="4699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173320" y="569700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2185920" y="56847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097000" y="5076360"/>
            <a:ext cx="26964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2170080" y="604656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2182680" y="6033960"/>
            <a:ext cx="14400" cy="1440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2361960" y="5319360"/>
            <a:ext cx="15732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093760" y="5490720"/>
            <a:ext cx="26964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2166840" y="643392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2179440" y="6421320"/>
            <a:ext cx="1440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359080" y="5734080"/>
            <a:ext cx="15696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163600" y="6516360"/>
            <a:ext cx="19080" cy="1908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2176560" y="6503760"/>
            <a:ext cx="14040" cy="14040"/>
          </a:xfrm>
          <a:prstGeom prst="ellipse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2362320" y="4938840"/>
            <a:ext cx="156960" cy="156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2355840" y="4525560"/>
            <a:ext cx="15732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182680" y="336996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2398680" y="2496600"/>
            <a:ext cx="157320" cy="157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4:31:17Z</dcterms:created>
  <dc:creator>Alexander Rusitska</dc:creator>
  <dc:description/>
  <dc:language>en-US</dc:language>
  <cp:lastModifiedBy>Siegfried Bocionek</cp:lastModifiedBy>
  <dcterms:modified xsi:type="dcterms:W3CDTF">2006-01-26T18:35:30Z</dcterms:modified>
  <cp:revision>116</cp:revision>
  <dc:subject/>
  <dc:title>Presentation Title</dc:title>
</cp:coreProperties>
</file>